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EB7-CA7C-45C1-A10D-FB06F68A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08F9-1A31-411A-88C7-16CD3439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30CB-49C3-4336-ABA7-B2E129B6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0F4F-F47D-49D7-8719-1A99C2FB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89EF-BCDB-4892-A606-9BD450BA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AFF3-78D1-48D0-9DE0-5B2ED145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500-53D1-4727-9F4B-A36FF306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0D7-15F7-43C5-9556-488EC904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8B77-D3BE-4EF9-BDEE-663DB73E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E44C-4658-429C-8498-F657383C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E2D-34CD-4785-AA5D-375E1062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FA59-C215-4164-A295-856A2E68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59BC-3389-462C-A5A6-3452A711DBA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45352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Myriad Pro"/>
              </a:rPr>
              <a:t>www.FreepptBackgrounds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6"/>
          <p:cNvSpPr/>
          <p:nvPr/>
        </p:nvSpPr>
        <p:spPr>
          <a:xfrm>
            <a:off x="395280" y="333360"/>
            <a:ext cx="60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Myriad Pro"/>
              </a:rPr>
              <a:t>Free PPT Backg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</cp:lastModifiedBy>
  <dcterms:modified xsi:type="dcterms:W3CDTF">2013-06-08T06:00:43Z</dcterms:modified>
  <cp:revision>766</cp:revision>
  <dc:subject/>
  <dc:title>Free PPT Backgrounds</dc:title>
</cp:coreProperties>
</file>